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DEA-BBC7-412D-9C26-9BACADE1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813-7F1A-4C8F-A5B9-648037E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929-E1EF-49C7-8307-6741D1FA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CF9-8075-4248-B3BC-91F16074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76AEF-CF83-4DD3-9EF0-5B4A0605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6CDC7-7577-4D8D-BCC9-C735063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66878-BE63-49DC-8373-1E63834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EFFC-57B4-4627-BC72-0C60E708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42376-3665-4264-A093-3389BDEC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1C084-6E32-4AA0-A32B-D7795F2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670F2-0140-4E4B-AFAC-BD1B132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C7B-252C-4AB1-8510-C340FF9C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E3EF-F0F0-4C95-9919-BEC0B0F6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28E7C-04FD-424A-9AB9-B4D166B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9D18-89AD-4E2B-BF6C-993FA73A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A4355-3353-4539-B30E-D91F48C6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BB117-07E7-48EB-8FFE-319D1FAE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B789-003E-46EA-97E3-CF46AB4B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5E3D-25BE-4934-A062-1B4E361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E8B8-4A9B-4843-B6BA-3D8949D2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C144-C55F-4B29-A55A-F8A7E2C1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123E-3172-437B-AA66-69DE41E3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866-701C-4E20-92F1-7FD4687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5FF6-B023-4083-AEB4-1BB6211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5045-0B5E-406B-860A-9343314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D283-4AE7-45F3-B026-FE940F2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B24F-42E3-437D-961A-276EEDE1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2177-A993-4788-A7EB-364FBD0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B4AF-5F09-4A7B-9B12-3CF78816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17E7-1B1D-4438-8303-9B7FBB00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E77B-64B4-4F77-853F-E4505596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C7D9-B645-4ED5-947B-2C3A4BC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8250-A64C-4072-B7A0-AE8F855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55E-658D-40B1-AD7F-B7A7A73C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83EF-3448-4A3F-8330-AFAEEE3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0250-FE02-4B63-A249-303F644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27CE-C651-421A-9A88-698FBF7B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5B61-C2BD-4E3B-91B9-B8F821F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DE90-9D39-47C7-A141-3C261F6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A615-53FD-4B93-A0E7-A78C26B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FAF6-561F-4239-AA19-580274B7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7A669-D449-47F0-B8AA-7D5E4CD4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C335-CE45-4091-B0F0-191E4ECB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A98-0A2B-4A9D-8FD8-4249FFA5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B54-5379-42E7-910A-3EDE490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D57-EEDD-4118-80E4-D16EE6C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327-EF58-4A37-8FFC-09E36A7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532-5E3A-4FC8-83A7-75ABDEDD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23B-278D-4BC4-B694-0714775FA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11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42" name="Freeform 2"/>
            <p:cNvSpPr/>
            <p:nvPr/>
          </p:nvSpPr>
          <p:spPr>
            <a:xfrm>
              <a:off x="4500720" y="930240"/>
              <a:ext cx="139680" cy="17794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3" name="Freeform 3"/>
            <p:cNvSpPr/>
            <p:nvPr/>
          </p:nvSpPr>
          <p:spPr>
            <a:xfrm>
              <a:off x="4498920" y="3016080"/>
              <a:ext cx="133560" cy="5763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4484520" y="3957480"/>
              <a:ext cx="133560" cy="395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4494240" y="4707000"/>
              <a:ext cx="82440" cy="368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4525920" y="5324400"/>
              <a:ext cx="57240" cy="2113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4525920" y="5778360"/>
              <a:ext cx="47520" cy="9367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4127400" y="5707080"/>
              <a:ext cx="370080" cy="206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4100400" y="4584600"/>
              <a:ext cx="738360" cy="10256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4708440" y="3803760"/>
              <a:ext cx="5050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3664080" y="1889280"/>
              <a:ext cx="2228760" cy="1830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4303800" y="5207040"/>
              <a:ext cx="5842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860640" y="2844720"/>
              <a:ext cx="1570320" cy="2284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3333600" y="1844640"/>
              <a:ext cx="1062360" cy="9241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216684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6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472428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e2d7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7B1D-E9A7-40D3-8933-621A9E220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D42F-5A96-4C41-8583-4BD825C03D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11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41" name="Freeform 2"/>
            <p:cNvSpPr/>
            <p:nvPr/>
          </p:nvSpPr>
          <p:spPr>
            <a:xfrm>
              <a:off x="4500720" y="930240"/>
              <a:ext cx="139680" cy="17794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2" name="Freeform 3"/>
            <p:cNvSpPr/>
            <p:nvPr/>
          </p:nvSpPr>
          <p:spPr>
            <a:xfrm>
              <a:off x="4498920" y="3016080"/>
              <a:ext cx="133560" cy="5763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4484520" y="3957480"/>
              <a:ext cx="133560" cy="395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4494240" y="4707000"/>
              <a:ext cx="82440" cy="368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4525920" y="5324400"/>
              <a:ext cx="57240" cy="2113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4525920" y="5778360"/>
              <a:ext cx="47520" cy="9367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4127400" y="5707080"/>
              <a:ext cx="370080" cy="206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100400" y="4584600"/>
              <a:ext cx="738360" cy="10256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708440" y="3803760"/>
              <a:ext cx="5050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664080" y="1889280"/>
              <a:ext cx="2228760" cy="1830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4303800" y="5207040"/>
              <a:ext cx="5842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3860640" y="2844720"/>
              <a:ext cx="1570320" cy="2284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3333600" y="1844640"/>
              <a:ext cx="1062360" cy="9241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216684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72428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e2d7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376-DFF1-4431-A60A-A37F718E2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ed.nyu.edu/healthwise/article.html?hwid=hw4404" TargetMode="External"/><Relationship Id="rId2" Type="http://schemas.openxmlformats.org/officeDocument/2006/relationships/hyperlink" Target="http://0-www.mdconsult.com.carlson.utoledo.edu/das/patient/body/86541057-3/666880165/10041/9397.html" TargetMode="External"/><Relationship Id="rId3" Type="http://schemas.openxmlformats.org/officeDocument/2006/relationships/hyperlink" Target="http://documents.cancer.org/117.00/117.00.pdf" TargetMode="External"/><Relationship Id="rId4" Type="http://schemas.openxmlformats.org/officeDocument/2006/relationships/hyperlink" Target="http://www.aafp.org/afp/20020501/1834.html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nical Case #4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y Darrah, Nate Franley, Paul Rogero and Julie Johnson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hy does his back hurt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287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The prostat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6765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of seminal volum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ne or aci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es into what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structur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ponents of semen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029200" y="182880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38104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7195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The prostat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6765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s about 30% of the seminal volume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ne to neutralize acids in the reproductive tract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es into the prostatic urethra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line structure with 5 lobe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rinolysin, calcium, phosphate, citrate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5029200" y="182880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38104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7195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How is the prostate fed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arteries feed the prostat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nal pudendal and middle rectal a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veins drain the prostat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nal iliac fed by the prostatic venous plexus draining into the vesicular v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What’s the lymphatic drainage of the prostate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ternal iliac nodes, running along with the internal iliac ve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Book Antiqua"/>
              </a:rPr>
              <a:t>What nerves feed the prostate?</a:t>
            </a:r>
            <a:endParaRPr b="1" lang="en-US" sz="40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rostate gets dual innerv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mpathetic from T12-L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asympathetic from pelvic splanchnic nerves S2-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bviously, masses aren’t normal.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is this mas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state cancer or Benign Prostate Hyperplasi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Normal Prostate Change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7720" y="16761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birth, the prostate is about the size of a pea. It grows only slightly until puberty, when it begins to enlarge rapid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tains normal adult size and shape, about that of a walnut, when a man reaches his early 20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land generally remains stable until about the mid-forties, when, in most men, the prostate begins to enlarge again through a process of cell multiplicatio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Book Antiqua"/>
              </a:rPr>
              <a:t>Benign Prostatic Hyperplasia (BPH)</a:t>
            </a:r>
            <a:br>
              <a:rPr sz="4000"/>
            </a:br>
            <a:endParaRPr b="1" lang="en-US" sz="40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761760"/>
            <a:ext cx="518184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up to half of men in their 40s, the prostate begins to enlarge through a process of cell multiplication called benign prostatic hyperplasia (BPH)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larging inner portion of the prostate puts pressure on the urethra, which can potentially cause urinary problem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bout 80% of men eventually develop enlarged prostates, but only some experience significant symptoms. BPH is a normal condition and is not life-threaten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3" name="Picture 2" descr="BPH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Which one is it, cancer or BPH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rregular nodules are characteristic, but not definitive for canc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PH has the nodule smooth and regular on a digital rectal exa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velop in different parts of the prostat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PH occurs in the inner zone of the prostat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ncer tends to develop in the outer are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 10-year study found no higher risk for prostate cancer in men with BP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 Black"/>
              </a:rPr>
              <a:t>So, Mr. X… what brings you in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casian male, age 66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ing of generalized lower back pain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2 months ago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is “dull” and has not changed in intensity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nt minor weight loss- 10# in 2 month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Risk factor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might cause prostate cancer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besity (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ce (African-Americans high ris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sectomy (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it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North American, Australian, NW Europ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How to diagnose prostate cancer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state biopsy (definitiv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state-Specific Antigen ass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SA over 4 is a 10% chance of canc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SA of 10 is a 50% cha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sk goes up as PSA ri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600200" y="54864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029200" y="230508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Stages of prostate cancer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bone scans, CT or MR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- no spread outside prostate, found on a transurethral resection but NOT found on a rectal exam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I- same as I, found on a D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II- spread to seminal vesicles, but not lymph nod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V-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ncer has spread to pelvic wall or rectum 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ncer has spread to lymph nodes or has metastasiz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Symptoms occur in later stages: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480" y="1447560"/>
            <a:ext cx="44974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Book Antiqua"/>
              </a:rPr>
              <a:t>Later Stage Urinary Sympto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1920" y="22096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ak urinary stream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ability to urinat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ood in the urin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ruption of urinary stream (stopping and starting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requent urination (especially at night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in or burning during ur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7000" y="1447560"/>
            <a:ext cx="4498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Book Antiqua"/>
              </a:rPr>
              <a:t>Late Stage General Sympto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873680" y="2174400"/>
            <a:ext cx="427032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ronic pain, most often in spine,  &amp; sometimes in pelvis , lower back, hips, or bones of upper le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y be accompanied by significant weight lo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Metastasis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state cancer can metastasize through the venous system via the prostatic plex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common metastases are to the lumbar spine (90%) to compress the spine, then to lungs in 50%, and in 25% to the li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umbar spine is affected 3x more than cervical sp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181480" y="18288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3434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an metastasis explain the back pain and sputum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ck pa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ssible spread to the lumbar spin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ressing the spinal nerv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utu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ssible spread to the lun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How to treat this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440" y="17715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RI/CT to grade the cancer and investigate possible metasta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rge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state remo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moval of the testes (Why?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ug therap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ti-testosterone dru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H-releasing antagon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nthetic estrog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Survival rate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ared to men of the same demographic without prostate canc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5 years- ~100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0 years- 93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5 years- 77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itation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ore, K.L., &amp; Dalley, A.F. Clinically Oriented Anatomy. 5th ed. Philadelphia: Lippincott, 2006. pp. 406-409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gital Rectal Examination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1"/>
              </a:rPr>
              <a:t>http://www.med.nyu.edu/healthwise/article.html?hwid=hw440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state Cancer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2"/>
              </a:rPr>
              <a:t>http://0-www.mdconsult.com.carlson.utoledo.edu/das/patient/body/86541057-3/666880165/10041/9397.htm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state Cancer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3"/>
              </a:rPr>
              <a:t>http://documents.cancer.org/117.00/117.00.pdf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chsjäger, M., Shukla-Dave, A., Akin, O., Baretnz, J., &amp; Hricak, H.. (2008). Prostate Cancer Imaging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Acta Radiologica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4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1), 107-120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axby, K., (2001). Prostatic symptoms- Essential simple investigations were not mentioned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British Medical Journ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 323(7315), 750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urologic Complications of Prostate Cancer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4"/>
              </a:rPr>
              <a:t>http://www.aafp.org/afp/20020501/1834.htm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Let’s get you on the scale.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 135/80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se 75bpm, regular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of 98.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 of 19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5’9”, weight of 225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322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Deeper into the history.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jury or trauma in history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ghing in morning that produces yellow sputum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s 2-3 cigars/day for 10 year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ia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edication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5181480" y="4038480"/>
            <a:ext cx="3252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The exams.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s show expiratory rhonchi diminished on coughing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ovascular, GU, musculoskeletal and neurological exams are norma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/recta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gular mass anteriorly and in midlin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 is not painfu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Okay, so now what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24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unusual with his exam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MI of 33.2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iratory rhonchi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sputu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, irregular nodule 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rectal exa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6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Another question…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you be able to see on a rectal exam in a male? How about a female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um, bladder, coccyx, sacrum, ischioanal fossa and anal musculature in both sexes, particularly the internal and external sphincter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en the prostate, seminal vesicles, bulbourethral glands and the bulb of the peni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alpate the uterus and ovaries in wome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So what do you think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Nocturia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ossible cau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ate cancer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ign Prostate Hyperplasia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usor muscle weakness in older me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 level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during the da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at nigh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5:47:35Z</dcterms:created>
  <dc:creator>Casey</dc:creator>
  <dc:description/>
  <dc:language>en-US</dc:language>
  <cp:lastModifiedBy>Casey</cp:lastModifiedBy>
  <dcterms:modified xsi:type="dcterms:W3CDTF">2008-01-28T01:23:34Z</dcterms:modified>
  <cp:revision>10</cp:revision>
  <dc:subject/>
  <dc:title>Clinical Case #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